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F3B-D7BB-43BB-84EA-7FFB1849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A59C-CF29-42E2-8F73-FD7AC9BD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6EE0B0-3987-40AC-BFE2-6474D608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87D2E-6591-47B4-A320-7C350ECB7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DE7DD-819A-4022-AA4C-4A488409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473926-1628-48C4-AE14-FC465757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9686C-D0C7-4EDA-9E68-2402569C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AF371-7BEA-454C-9AC2-C1FAB659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5FE24-3D6E-4F99-B649-62BCC922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6236E-E4BC-4D0B-9D0F-C28375CD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2D90B-B425-43E6-8D62-4FDF9370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08900-78EC-4C0E-AE58-4C94E2F6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87B-F89D-42B6-A2FD-D7ADF7FB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B0E0F-1C30-4A2E-BE4D-4187E273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106FB-3081-45B4-97A0-7A75A919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6887C2-0C97-434D-BC25-DC68F989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E6FFC-D633-41C1-BC98-54D7DFE2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ECD6D-4EBB-4029-AC4C-1C63624F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062E6-40D9-4E3E-AD99-05D21756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A16E2-F772-4C18-9591-4C18F39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8D332-CD19-4F26-827D-92E6559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20817-8586-46A4-948A-09E07634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23F103-5E7B-49DB-9E0D-333DF6D0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8134-D627-475F-BF3C-88547E5F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8431A-FED7-4821-8B64-17D5443C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463A6-C4A1-4EBD-92F4-5A035FD4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83590-DD92-434F-BA04-E229C496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D6147-5906-46D8-96D2-618C4462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B69AD-A556-41DF-8BF8-315ECA98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3F975-6FF3-4A3C-806D-6EC9CD90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41A91-A636-4071-BC64-5E5442AE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644AF-7C97-4E46-9FCA-5AA98558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E6D71-4B7B-4C67-8621-83F90BE6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AC03C-700A-4867-B63F-BCEDB1E9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5676-590E-4BDD-9CFE-DA3ED0E3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14888-493D-4109-B775-554081E6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F986D-F879-4DDC-B71F-C274390C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77237-2D1B-475B-9735-31608025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3C1D7-6A31-4A0E-ABA7-14C86429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BA574-F9D5-4599-AA48-9FF3ECA2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7929D-AA78-4BD2-A915-0D703F96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709E0-1D47-43C2-AD90-00DF8AEB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7A686-E4A0-4895-AB4A-52A6DFCF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BF039-2286-4369-8F48-E908A4B9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BBF6A1-80F0-4428-B692-B90E28BC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0732-CF4C-43B6-9BA5-D5FE34CB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E0F6F-16AF-4B0C-B1B9-4BEEA1B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BFE86-ACAD-4D77-90F9-AD73D7F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1A44A-C0D7-47DC-9BBE-14421E48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1A5FA-230D-4FDE-8894-BEEF9373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EBCAB-B92A-4EDF-AD1C-279F7007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60E19-7E0C-4501-8BE8-E42E4AFDF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FC776-E90D-4D6D-A250-AE538A67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33FEB6-B4CC-4D9C-93EC-B60BE82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89148-A5DB-4682-8735-9343CB98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F2FAF-F7A1-4A82-96CF-24772D03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B859-C951-4BCC-B696-64B25E88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65380-3BD0-4BFC-ABEB-2344F7DC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DD76C-BC3F-408F-BD34-8664F7DB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1882A3-EE72-4386-9893-1EABEF27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FE501-B530-45B5-A9D7-7E3A9775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8A706-B4EC-46C2-B32F-0C7C14F9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FBDDC-E833-4764-91BF-5A8DC380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5BAADD-2EB7-432B-A58F-F22086622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C5560-F663-4040-B71B-ED9A1A1B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64539-1E2B-4907-9A07-843E0BB5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0DAB0E-3994-401A-BCD4-CE84422D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9BB7-6923-4CFD-BF49-71576237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AC3C3-5A32-4CDD-A466-EEBE4DD9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2AAA9-43D2-40FA-909B-8026F91E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8C4C6B-2DEE-48EE-B29D-18913EEF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B872C-F45E-44F9-AE20-53FDE6ED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982AE4-8BD9-4516-B6EC-9CB5E46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9DFC6-9FCD-4C11-BC25-98998607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87FD2-0962-4209-9B12-75C5AE87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E1B178-D64C-4096-807F-EBA7A93B7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3DCAF7-D17A-4AC4-B3E5-F948625F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FDF499-BDF1-4769-822E-6A93DF17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9454-AD5E-4DEF-A32A-D16F05C4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CD5F0-133B-448C-9D3A-3C0A184F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B3889A-8B91-48EA-89FE-74933957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434397-D887-4483-912D-E22FF60D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A1543-A82C-4B7B-8876-759AD60A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7FB89-47BF-43D6-BDE3-8B5D3A2A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B61706-1721-4D63-A5D0-5CBB4D5B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8EDDD1-DC01-44C1-B447-906D18F0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3E576F-6999-40EE-A996-08B147D5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44F87F-6452-4922-9758-82E72041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BD0ECC-4FF3-47B7-9C9B-DE157908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FF7C-DC1F-4A96-A235-6E3D8855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F3E201-D72D-47A9-A40E-1B0EA334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D85A24-4884-4B11-BEDA-2E7612D3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BB2C3D-8E4B-43E7-BDD8-FEFF5117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A64684-65FF-4DB1-97AA-72F986BD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3F330-4DF7-40D4-9496-744638CB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B17390-E978-4046-82EA-C120466A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AB6D4F-0131-4DF0-901D-070065AD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257D85-2FA1-4151-ADCE-8A4F6D4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09FEF1-31A1-400D-A973-2EE6F6E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584E3F-56F7-4278-9D1E-0129F528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47D40-7666-4421-BE9A-5B25431D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79F0B8-4841-4920-A8AD-98EAC422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2093F-2C15-433A-BE55-000676E6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22D8EE-88D0-4D62-AF6C-5FAA4392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589575-5388-4A36-8DB7-11E28EA2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2A73C-45ED-4D2E-8D9A-FA85D091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FD8B6A-90A2-4441-9DEC-D31730C3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3EA8E-71CC-4BBC-87C4-E25014E9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EA41B-7275-4A4F-BE55-92090121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EC90B-C356-4FFE-8AEA-9E8BDAB5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DFE72-BAAB-400A-821A-06D768EA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BE6-72F9-4EF9-883C-87FDCD96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39F6-5EC5-47C1-982E-3A9431DB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B03ABA-7886-4D25-8379-49B8F2F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63A54E-CF32-47DC-BF5E-46C9E4BC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7474C-6DEE-4247-A6CE-46BAAAB0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B839D-3CF3-4884-AEED-CBD59403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DD24F-0C4B-4E4A-ADE1-73AE3A85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75917-201B-4E8F-BB0E-F6373570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223E46-11F8-429B-BB7B-3F0CE6B4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F83745-442E-4A51-B31D-69BFBB19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9C2E4B-02D4-46B6-92DA-6AEA667C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0947E-B0CE-488D-910F-D3D2953B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4C4F-A054-4D85-9196-5B78C383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9456F9-5324-420A-96B9-318DCB1B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57168-B70D-4C4E-8437-048E7B82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5D72AE-6CE3-4823-91F4-B6FD95C2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6664E1-C42C-465E-B7F5-1B8FF126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CD159-B152-425F-96EA-DAE96E77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1CBC32-5F1F-4F2A-A45A-25E5DFD5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E2632-AF17-4767-9CB9-88A5A185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52088-7F76-4B1A-BA39-4A6B4B0C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90CAB-EBAE-4717-A5AD-E0398911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DC9D2-77D5-44F8-82D7-5F33D9D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40D3-3F5E-4FEF-8A1C-DA83D6E9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C580FB-9BF1-415B-8782-B0D47846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599BF0-829F-4E4C-AB86-03BD9AD0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51C16A-0416-493B-8C4B-21D1369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C2E6C-1958-408F-9DA6-215F33E0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DACF74-5A28-4610-924A-2CE1A25D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450402-7703-4361-B5D0-C4D19B32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46619-2B2A-4B7C-90A5-D7D69F1A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E742FE-D31D-4C0B-80F5-138A6DD4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C447F-3214-46AE-BA42-10C9D9EE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386F50-0BCC-48B9-834C-5890292FC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5554-2095-4ED0-B516-46DC2C85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C91A98-87B5-43F0-8AA7-75D8BC93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6ADE95-C3D8-4A0A-A695-223EAD73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6F2565-6ADF-4EE0-902D-C4F8A1E6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80E678-F52D-4BEA-9C67-8BB729E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F90AD-61C7-48BF-A680-D3BD95BA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8F50B-9003-4B3D-A3A0-97C95A6C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4857C6-98AF-400A-88B0-03821AF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4F913F-0CBA-44A5-BE76-52A96D11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D610B5-8449-443C-9AD1-9977206A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3BB12-C750-4545-A805-1FDCDF9F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8CFC-5CAB-4B8F-A8E3-84879C30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9C6F54-A2CF-4F67-887F-ABF2BA80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8234E3-FC75-4C4C-B86F-B8D87B06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E4DD12-1509-4948-8BCC-32E3CE50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B072A-67BF-4E64-9CBE-BD8C72E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46E737-6F17-4FD6-BA47-9FA8EC35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1C9CF8-6102-4BE8-9A88-2DFBD106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533F9-6099-4563-A9D2-10E4A58D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3D8F1-6B99-49C0-ACD3-E46AF172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3336EF-277C-4CF6-A6CC-825605B4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D699A8-88A6-4FF5-BD8B-C234044F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DB0B-5460-47BC-8DF7-F000CC2F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27A5F-40F9-48D9-8A13-36C23213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FB8D63-91BC-4683-BB1C-01360A5DE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BA9BF1-511E-46DC-8D13-B78FA803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FA58D-3DF5-475D-B0F9-351FD30D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E293B1-2D28-4D2D-911E-15A3AAF3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A5D189-384F-49A4-A286-28AB792F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334977-6C0F-4249-A639-E57CFB5A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D06F46-4829-4AB5-A041-C0DB61F6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F853A4-91F7-402E-B7BB-55FB5C7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5A762E-E224-41BF-A7C9-63B26886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9800-A630-4B78-8F08-E0ABF897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BD3E6F-3714-4044-AA18-4755D8A6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58FF8-33E0-4E73-9251-2A7A6821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5DBA7D-C77E-48CC-AC2A-21E1870B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D7225A-B307-4F73-BC78-028A8137B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4C8AAB-AE72-47E5-8B1D-4329A1457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44B3C-17B7-4BEC-AB54-994E234B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1F3069-7FD8-4F43-9F97-E69DE377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04DF78-697D-49C9-9654-5B8251B9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637E04-289A-46AF-A40E-EBE31FD0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2CCE09-B091-49C7-B900-70B8B5FA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20E0-454A-4D68-BDA7-66376823B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D973A1-2D23-486B-85F3-52B30B79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20C1CE-5FE3-466C-BC65-851C5349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B80656-F6B4-4E01-A5DC-BB8994EF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B9FCC1-E8E0-4252-B51C-461E69C6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364BD5-17D8-4632-8AD4-BF7BC6D4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268682-DAAF-4EAF-9218-5FB5ADE7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787A17-DC02-48CF-90CE-E4DF01F12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1B9B15-43C3-432A-BE63-9DBB5957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03516C-4074-4298-BDBD-C7F233FF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54B8C0-27A8-40B7-99F3-CB0421E4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2BD37-52F0-48C4-A201-83A31E13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157750-6879-49E2-A4B5-15CD4371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4E43EE-3033-48D9-BAFA-27B7A837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F94FDC-3E00-4727-8139-16AD04E1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DF4333-4914-4624-84C9-A56A2F56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7FEF77-5517-4A73-9430-2736A17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6E129C-D756-4514-B724-26BDB4C1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62D49F-9BF3-42E4-A8E7-78DE9D10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9F7D18-DF63-43DF-B0CC-80C87CDB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8D4535-1925-4B78-891C-D3DF961B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311B6F-4612-4C97-B217-1B3EBCDF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71384-0648-495F-A724-6599590C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FBBA54-246B-4685-A00C-30CFA4D1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857C0C-607E-4194-A66E-DB72F28E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47F562-9869-4305-BF5F-20C2D41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EDDF8D-9A5B-4CEF-9CD6-A5F11571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A20DDD-96C2-4FBD-B6AC-C61418E6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16EEEB-72BF-4F0B-BB2F-EF4556CE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75534B-2463-40DB-8443-4076713C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763530-A786-4FF8-A60C-560729E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0D784-10D8-49A7-A892-1D208088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3F10BF-C9C6-4FBB-B3B3-BE74BB0D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5E0D-D031-4E06-B643-F868E127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219B0-5AAF-4D16-91DF-4D163594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E7D01E-ADF1-468E-8F80-CE4DA6D16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8548B8-5DFB-4DC1-9566-DBA81142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E034E8-6155-42FD-BE19-FA9755A6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669A37-69A0-488A-94D8-348C4B60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F6F6A9-9567-4EC4-98E3-7130B86F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837E32-8F81-46C9-B058-DD9CE56C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E655CE-0118-490E-9910-CEA33986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F692A8-A1D4-4111-ADC8-E870B43A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F3890D-4A5B-47EC-87C0-FE6E9DC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57900B-540A-48F2-B5E1-EBCEB513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5CEE8-6E0A-46EE-B201-8158543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44A8D5-A0BC-4BBF-A076-4C67E0E6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6FE747-6230-4C0B-9060-47CF5347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95C106-E7F1-4E27-9EB2-43A278F04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8800A3-720A-42ED-8EAC-40098BE3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ABD75C-0073-430E-965C-8C915D35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E5596C-3BF6-4E15-99B5-D66E58DB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7CE45C-F2F5-4A94-9D04-4CD8375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1736D4-B0E1-466C-9509-A61A9E32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2EB42B1-9902-426F-A7E3-1BFC2C47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1F351B-B274-4D84-B763-E2BB098E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09C91-955E-43A3-AB96-D92B113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CBFF7F-142F-466C-A6A2-30563D85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621919-BF99-4748-B53D-A7F21F00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FE3FFA-400F-41AA-A678-7E206CB6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A2D145-CAF2-47A8-B4F5-35E9AD86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B80ECB-6999-4AE4-B825-E8429BE5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8AAC3FD-0E76-4747-85F1-133BDC24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D5336B-835B-4C89-99E2-2CBE73EE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20316F-11DD-4AEE-B97C-5B523BA4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D426BE-3D2A-451C-ABCB-374021735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3DFD99-3727-4192-B8E8-F409BAAB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0989-3F51-4B98-AA56-4C18650B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62C8B3-C732-4CA9-90A1-D99AD41B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942521-2504-4439-BD0B-2EF94EFC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92A15E-DE29-4571-8AA8-E745A0FD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3E92E4-687D-4731-93EA-7572B54F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3F786C-9443-4F7F-A134-FC5BCD97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082809-7D07-48F5-A8B2-0A3FFA32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88A50F-26C5-4E11-BE2C-61256C76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75BA85-8788-45CA-8801-ABC43EEEB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28B761-BBCC-4A4A-AF3C-C08140D2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623A51-2686-494E-AED2-DC6A76ED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BCD7-A80E-4A0B-8ABB-27377482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08FE5E-3977-4D9E-A674-D547A671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9DC114-E36E-43FD-BC29-BCEA9F8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589E6F-4FE6-493B-812D-FF4743AF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AB8724-86B6-4B32-967A-423CF5FA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23D7F91-FE3C-4ED6-A212-34E2E8B8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74AE45-4B80-4967-BD22-EC4AA78D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93FFCB-A8AB-402E-83EB-F34BD3E3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1EC34C1-0AC9-4356-AB87-6AC6C568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4DCEAF-ABB4-4B8C-90A0-5727F653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998EC24-C937-4B6F-AE09-DCCDAB5B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92C20-3DBE-4B02-B945-433AEC88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B096A5-C2F4-443F-AAC6-407902BB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21E556-07A5-4F42-86DC-964F8CDB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DF6E8C-BD7C-4167-9C67-D11AB71E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C3DBCB-D05E-42D5-A792-A7385ED3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F12CC4-9AF2-4BFD-BCBA-4802E50C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CA2375-5DA3-4215-A8B1-EA971503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7A4F4E-A6BE-4CB0-B4F1-B797F384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5E459C-0CA2-4461-BDDF-2224EC62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C6EFE9-AA3A-4569-8B5E-8BCE9B09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86764C-A020-4B16-9A13-9FF8BC1E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E166D-569E-4CB5-B788-2367EDF7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2910D0-A59D-4795-B4E3-7BA328EC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1D53E9-EC0F-42FC-9F20-3673E061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56801B-0806-4A75-B399-98190BD3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495A5EB-130C-4364-B8A5-FC64DC62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BB70C7-3BC2-4CE5-B3E1-60741440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496574-5557-499A-9109-04DF5B67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13747E-57CF-4F98-B041-BA485580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A23B6A-29CF-45F1-BA1D-65EF3AD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58EBD9-73A2-458B-9ECD-429CEC72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E481C1-ABC6-4BBF-9EBB-6CFAE76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C2D0-E3D0-4783-93C9-A61FEDC3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583334-8934-46C8-A6B9-1C94916B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CCB04E-49C7-4D48-9C11-605BF970F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42E6DA-72EB-41C5-9228-550571C1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7DD7D-DC68-4650-A410-49E9A31D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C093F-0425-4E03-B86D-73294D41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6F6-02A4-4A85-AB04-2069B6F7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A1F01-1427-4068-80E7-AF28957B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3A494-F607-41AC-A361-700866E0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9989C-7344-4E55-83E1-D2BBC4A2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EDBE-E4EE-458E-934D-5CD218A6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1DB06-24B1-44FC-B761-43E7F0B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538C-4660-40B9-AFD8-39C0E4C2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66FC-50CF-4226-A02D-A8D1827D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E3BF8-CF15-4070-B1E9-452A330A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F7B2-3647-4C6C-894A-E4DAEBCF6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8870F-2D3A-4497-9D84-DB2CD8EE2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B5D-3330-48F2-92EC-156B5DE5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9FFC5-61E7-4491-93B7-9953D4A2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69B9-1CA5-4CB5-853E-6A5030ED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8D005-A5BE-49F4-9260-47263805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EFF34-5CAE-406B-B63C-C90E9C37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B24A5-FB6F-40F3-A790-C2AF5682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34B7A-03E1-4592-A149-AD44976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D002-B875-44C1-8588-0A9D0C1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35DD7-B2A0-4ABB-A4A7-8F0FE3EB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F7F45-B36D-4723-A289-2BB8E1A5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1DE7E-EB69-4552-A6DE-000700DB4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2C0D-430B-48FA-827A-8DD5BF7E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9E00-21D5-4004-B9B0-EA011922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EFF1B-6D52-4010-8D79-F5100E1F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FBF85-CDFA-4057-9D87-A866F268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196A3-B7AB-430B-ABD7-F16E67CC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85E7D-538E-4534-9F21-DCDD6081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D2B46-0A22-499A-9E1C-764B5E0C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70517-AC61-408D-A9D7-D210F894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FBFA4-A096-423B-9422-92F24982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F4A94-B9CF-404E-947A-2C054874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9C5D2-B50B-4D3C-BDC1-1418915E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BF1-38A5-466D-9ABF-E7DBBD16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AEE35-4E5A-4512-AE60-A5B01E6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CFCC0-1DD9-4BF4-AF24-F3CACBFF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0E243-3012-4EE8-ACDB-DB584BE2B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D328C-8CFA-489A-80A8-8C06D233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F37B8-4D6A-41A6-BD90-9CCD7168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BEF7D-8096-41D4-A514-007D2E58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F6030-AFE4-40EE-AC6E-7411CC34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4CE3A-5969-430F-9668-25D8304C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79798-B416-477E-BC4C-C03C437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71F4E-9B49-4265-95CA-C06FC1E5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E7E-990B-4749-9926-67FE3DE1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A1078-A401-4C26-A11A-702B06A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6D53C-7DD9-4BF5-8B3D-1114E8A6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1D81E-054D-4064-B1BB-91D82847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36E7F-45D3-4170-9B34-1C51C2CBC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7C2DF-C699-4CE0-96FF-62790A17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3911D-8FC6-4EDC-8A09-D9E10FDD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9CE66-96F6-4A75-8117-C40FA02B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B88AF-2BF5-40A6-AF3D-7A867017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2405B-50DD-4A9E-85A9-9D329A9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6E8D9-8A9A-4944-8FDF-7ADE4292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40BD-B08C-49C6-AE91-AD5651C9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3DE2A5-DD6E-42F0-88DD-EC8AE915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5787E-873F-4998-A6AD-871EDAA9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2FCFE-2A6A-464A-AC04-DA040000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8133E-804C-4B54-8D86-8C502556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D4C2B-46D7-485C-B031-C79F5D52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086BB-7CD2-4D3A-831B-BD2D729E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5CBAB-BCAB-40CF-8F6A-1CEA7326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5AE7C-383A-49F7-8235-1FA927E30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BAD4C-C353-4D71-B838-77E6A564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20DD5A-F7E6-4608-8EEE-2DD3532A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588C-EA62-47C4-B2AC-C809704EEF3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812E-E3A0-4F7A-8117-6B5D9ABD8E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488E-74E1-4338-A33A-B7BA504787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3639-E114-47B2-9229-5C83CC0BBB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069E-3CE6-4845-8D7F-3A517274BC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CF9F-DFB7-4275-AC35-206957BBA0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3D68-BE90-4A63-A79E-6119C30AB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096A-3102-4422-ADA2-8936B6E4AB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F8C9-782D-42F5-BC30-5A56087D2B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F14F-7085-49EC-831A-2F3C074396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0F24-CE18-47EA-A056-28C40B1D8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BA28-DD49-4AFD-8495-1D265184A4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1CE7-0B1F-4F85-BADB-DE41C51703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A8F3-0220-4B74-8E7E-75B168FA0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D0FA-8385-4E3C-A978-22855E8338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D181-4C6F-4E44-8A8E-97B9B4FF2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2DE4-A1C5-46FB-8823-B616A0EEB5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6461-9684-462D-A140-DE5E50136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49B5-A50E-459C-BD6B-E5F04796D4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54A9-0D35-417D-90A2-3545966727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7A64-BDAA-4A36-9691-C44A12E8D8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7DC4-1986-4BB9-B47B-C607D65A8B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9440-4538-45F9-B220-56421AA35E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B92B-AC84-498D-BF52-39ED8F994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031-4FD0-4470-9D52-F42189B860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96CA-BD26-4D25-BB94-7D44D66EAB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8EF0-70B3-4A6B-8D63-62C8946045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56C6-4B9B-4C84-AD06-1592AF0A32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3C57-2934-4153-9237-CB89223610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29D2-6080-4A6E-AAFD-87124024EC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95C9-265F-4547-AEDE-D4A4CAA1BC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B22E-6B4C-48D7-899B-05101024B5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5445-87E3-40A8-B458-93019C5BC9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2156-F879-47BD-954E-010C0F149A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5CA5-DA8E-4434-B0F8-6D17E7E1E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3D99-84A5-4B24-8608-188CF66E91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E7A3-771C-4B30-9530-33783843C4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94E4-117D-41C9-8446-E20C589A0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FFE0-BC25-40EC-9290-F4EAEDCC49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C170-2858-45D9-907E-2C151F27D8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10C8-A07C-4203-BEBB-63A3A3F38E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9E32-0DA4-4733-839D-B8EB418894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F3AA-6A46-4D55-A229-CAEA933D7D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1936-F66D-4C06-9B31-052A169A05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FEB0-D0C6-4FB9-86F4-A62441CEAE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7BA6-358D-4ABD-912F-DC99D2CF61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CF11-6D81-4AC1-A46C-CA10CFCF55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7988-2818-405B-8032-D41A8D36E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ABB3-8B65-4374-91AF-5361B52F6D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B789-4C19-4F61-9647-3CD1E9DA78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743880" cy="88596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69920" y="2989440"/>
            <a:ext cx="8143920" cy="334296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7451640" y="364500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4" name="图片 132097" descr=""/>
          <p:cNvPicPr/>
          <p:nvPr/>
        </p:nvPicPr>
        <p:blipFill>
          <a:blip r:embed="rId1"/>
          <a:stretch/>
        </p:blipFill>
        <p:spPr>
          <a:xfrm>
            <a:off x="700200" y="1063800"/>
            <a:ext cx="5000400" cy="1047600"/>
          </a:xfrm>
          <a:prstGeom prst="rect">
            <a:avLst/>
          </a:prstGeom>
          <a:ln w="0">
            <a:noFill/>
          </a:ln>
        </p:spPr>
      </p:pic>
      <p:sp>
        <p:nvSpPr>
          <p:cNvPr id="1365" name="矩形 132098"/>
          <p:cNvSpPr/>
          <p:nvPr/>
        </p:nvSpPr>
        <p:spPr>
          <a:xfrm>
            <a:off x="1228680" y="1638360"/>
            <a:ext cx="3608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6" name="图片 131073" descr=""/>
          <p:cNvPicPr/>
          <p:nvPr/>
        </p:nvPicPr>
        <p:blipFill>
          <a:blip r:embed="rId1"/>
          <a:stretch/>
        </p:blipFill>
        <p:spPr>
          <a:xfrm>
            <a:off x="169920" y="979560"/>
            <a:ext cx="7991280" cy="4543200"/>
          </a:xfrm>
          <a:prstGeom prst="rect">
            <a:avLst/>
          </a:prstGeom>
          <a:ln w="0">
            <a:noFill/>
          </a:ln>
        </p:spPr>
      </p:pic>
      <p:sp>
        <p:nvSpPr>
          <p:cNvPr id="1367" name="矩形 131074"/>
          <p:cNvSpPr/>
          <p:nvPr/>
        </p:nvSpPr>
        <p:spPr>
          <a:xfrm>
            <a:off x="835200" y="2793960"/>
            <a:ext cx="750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1075"/>
          <p:cNvSpPr/>
          <p:nvPr/>
        </p:nvSpPr>
        <p:spPr>
          <a:xfrm>
            <a:off x="758880" y="3378240"/>
            <a:ext cx="750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1076"/>
          <p:cNvSpPr/>
          <p:nvPr/>
        </p:nvSpPr>
        <p:spPr>
          <a:xfrm>
            <a:off x="669960" y="3886200"/>
            <a:ext cx="750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1077"/>
          <p:cNvSpPr/>
          <p:nvPr/>
        </p:nvSpPr>
        <p:spPr>
          <a:xfrm>
            <a:off x="619200" y="4533840"/>
            <a:ext cx="7507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1078"/>
          <p:cNvSpPr/>
          <p:nvPr/>
        </p:nvSpPr>
        <p:spPr>
          <a:xfrm>
            <a:off x="581040" y="5105520"/>
            <a:ext cx="7507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图片 130049" descr=""/>
          <p:cNvPicPr/>
          <p:nvPr/>
        </p:nvPicPr>
        <p:blipFill>
          <a:blip r:embed="rId1"/>
          <a:stretch/>
        </p:blipFill>
        <p:spPr>
          <a:xfrm>
            <a:off x="282600" y="880920"/>
            <a:ext cx="8096400" cy="5248440"/>
          </a:xfrm>
          <a:prstGeom prst="rect">
            <a:avLst/>
          </a:prstGeom>
          <a:ln w="0">
            <a:noFill/>
          </a:ln>
        </p:spPr>
      </p:pic>
      <p:sp>
        <p:nvSpPr>
          <p:cNvPr id="1373" name="矩形 130050"/>
          <p:cNvSpPr/>
          <p:nvPr/>
        </p:nvSpPr>
        <p:spPr>
          <a:xfrm>
            <a:off x="847800" y="3797280"/>
            <a:ext cx="4586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0051"/>
          <p:cNvSpPr/>
          <p:nvPr/>
        </p:nvSpPr>
        <p:spPr>
          <a:xfrm>
            <a:off x="885960" y="4406760"/>
            <a:ext cx="4586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0052"/>
          <p:cNvSpPr/>
          <p:nvPr/>
        </p:nvSpPr>
        <p:spPr>
          <a:xfrm>
            <a:off x="923760" y="4965840"/>
            <a:ext cx="4586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0053"/>
          <p:cNvSpPr/>
          <p:nvPr/>
        </p:nvSpPr>
        <p:spPr>
          <a:xfrm>
            <a:off x="822240" y="5613480"/>
            <a:ext cx="4586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7" name="图片 129025" descr=""/>
          <p:cNvPicPr/>
          <p:nvPr/>
        </p:nvPicPr>
        <p:blipFill>
          <a:blip r:embed="rId1"/>
          <a:stretch/>
        </p:blipFill>
        <p:spPr>
          <a:xfrm>
            <a:off x="773280" y="870120"/>
            <a:ext cx="7572240" cy="3619440"/>
          </a:xfrm>
          <a:prstGeom prst="rect">
            <a:avLst/>
          </a:prstGeom>
          <a:ln w="0">
            <a:noFill/>
          </a:ln>
        </p:spPr>
      </p:pic>
      <p:sp>
        <p:nvSpPr>
          <p:cNvPr id="1378" name="矩形 129026"/>
          <p:cNvSpPr/>
          <p:nvPr/>
        </p:nvSpPr>
        <p:spPr>
          <a:xfrm>
            <a:off x="898560" y="838080"/>
            <a:ext cx="4205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29027"/>
          <p:cNvSpPr/>
          <p:nvPr/>
        </p:nvSpPr>
        <p:spPr>
          <a:xfrm>
            <a:off x="898560" y="1397160"/>
            <a:ext cx="457344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29028"/>
          <p:cNvSpPr/>
          <p:nvPr/>
        </p:nvSpPr>
        <p:spPr>
          <a:xfrm>
            <a:off x="911160" y="2374920"/>
            <a:ext cx="4205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29029"/>
          <p:cNvSpPr/>
          <p:nvPr/>
        </p:nvSpPr>
        <p:spPr>
          <a:xfrm>
            <a:off x="961920" y="2997360"/>
            <a:ext cx="73422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29030"/>
          <p:cNvSpPr/>
          <p:nvPr/>
        </p:nvSpPr>
        <p:spPr>
          <a:xfrm>
            <a:off x="873000" y="3949560"/>
            <a:ext cx="565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图片 128001" descr=""/>
          <p:cNvPicPr/>
          <p:nvPr/>
        </p:nvPicPr>
        <p:blipFill>
          <a:blip r:embed="rId1"/>
          <a:stretch/>
        </p:blipFill>
        <p:spPr>
          <a:xfrm>
            <a:off x="365040" y="915840"/>
            <a:ext cx="8058240" cy="2867040"/>
          </a:xfrm>
          <a:prstGeom prst="rect">
            <a:avLst/>
          </a:prstGeom>
          <a:ln w="0">
            <a:noFill/>
          </a:ln>
        </p:spPr>
      </p:pic>
      <p:pic>
        <p:nvPicPr>
          <p:cNvPr id="1384" name="图片 128003" descr=""/>
          <p:cNvPicPr/>
          <p:nvPr/>
        </p:nvPicPr>
        <p:blipFill>
          <a:blip r:embed="rId2"/>
          <a:stretch/>
        </p:blipFill>
        <p:spPr>
          <a:xfrm>
            <a:off x="852480" y="3855960"/>
            <a:ext cx="7134120" cy="466920"/>
          </a:xfrm>
          <a:prstGeom prst="rect">
            <a:avLst/>
          </a:prstGeom>
          <a:ln w="0">
            <a:noFill/>
          </a:ln>
        </p:spPr>
      </p:pic>
      <p:sp>
        <p:nvSpPr>
          <p:cNvPr id="1385" name="矩形 128004"/>
          <p:cNvSpPr/>
          <p:nvPr/>
        </p:nvSpPr>
        <p:spPr>
          <a:xfrm>
            <a:off x="4479840" y="2743200"/>
            <a:ext cx="19828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126977" descr=""/>
          <p:cNvPicPr/>
          <p:nvPr/>
        </p:nvPicPr>
        <p:blipFill>
          <a:blip r:embed="rId1"/>
          <a:stretch/>
        </p:blipFill>
        <p:spPr>
          <a:xfrm>
            <a:off x="587520" y="914400"/>
            <a:ext cx="7638840" cy="5791320"/>
          </a:xfrm>
          <a:prstGeom prst="rect">
            <a:avLst/>
          </a:prstGeom>
          <a:ln w="0">
            <a:noFill/>
          </a:ln>
        </p:spPr>
      </p:pic>
      <p:sp>
        <p:nvSpPr>
          <p:cNvPr id="1387" name="矩形 126978"/>
          <p:cNvSpPr/>
          <p:nvPr/>
        </p:nvSpPr>
        <p:spPr>
          <a:xfrm>
            <a:off x="733320" y="1003320"/>
            <a:ext cx="4815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26979"/>
          <p:cNvSpPr/>
          <p:nvPr/>
        </p:nvSpPr>
        <p:spPr>
          <a:xfrm>
            <a:off x="568440" y="1587600"/>
            <a:ext cx="4814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26980"/>
          <p:cNvSpPr/>
          <p:nvPr/>
        </p:nvSpPr>
        <p:spPr>
          <a:xfrm>
            <a:off x="428760" y="2184480"/>
            <a:ext cx="4814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26981"/>
          <p:cNvSpPr/>
          <p:nvPr/>
        </p:nvSpPr>
        <p:spPr>
          <a:xfrm>
            <a:off x="784080" y="2755800"/>
            <a:ext cx="4815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26982"/>
          <p:cNvSpPr/>
          <p:nvPr/>
        </p:nvSpPr>
        <p:spPr>
          <a:xfrm>
            <a:off x="695160" y="3340080"/>
            <a:ext cx="4815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26983"/>
          <p:cNvSpPr/>
          <p:nvPr/>
        </p:nvSpPr>
        <p:spPr>
          <a:xfrm>
            <a:off x="733320" y="3898800"/>
            <a:ext cx="5081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26984"/>
          <p:cNvSpPr/>
          <p:nvPr/>
        </p:nvSpPr>
        <p:spPr>
          <a:xfrm>
            <a:off x="733320" y="4521240"/>
            <a:ext cx="5818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26985"/>
          <p:cNvSpPr/>
          <p:nvPr/>
        </p:nvSpPr>
        <p:spPr>
          <a:xfrm>
            <a:off x="669960" y="5067360"/>
            <a:ext cx="5818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26986"/>
          <p:cNvSpPr/>
          <p:nvPr/>
        </p:nvSpPr>
        <p:spPr>
          <a:xfrm>
            <a:off x="631800" y="5651640"/>
            <a:ext cx="5818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26987"/>
          <p:cNvSpPr/>
          <p:nvPr/>
        </p:nvSpPr>
        <p:spPr>
          <a:xfrm>
            <a:off x="606600" y="6261120"/>
            <a:ext cx="5817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图片 125953" descr=""/>
          <p:cNvPicPr/>
          <p:nvPr/>
        </p:nvPicPr>
        <p:blipFill>
          <a:blip r:embed="rId1"/>
          <a:stretch/>
        </p:blipFill>
        <p:spPr>
          <a:xfrm>
            <a:off x="223920" y="846000"/>
            <a:ext cx="80866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图片 124929" descr=""/>
          <p:cNvPicPr/>
          <p:nvPr/>
        </p:nvPicPr>
        <p:blipFill>
          <a:blip r:embed="rId1"/>
          <a:stretch/>
        </p:blipFill>
        <p:spPr>
          <a:xfrm>
            <a:off x="608040" y="903240"/>
            <a:ext cx="7648560" cy="4314960"/>
          </a:xfrm>
          <a:prstGeom prst="rect">
            <a:avLst/>
          </a:prstGeom>
          <a:ln w="0">
            <a:noFill/>
          </a:ln>
        </p:spPr>
      </p:pic>
      <p:sp>
        <p:nvSpPr>
          <p:cNvPr id="1399" name="矩形 124930"/>
          <p:cNvSpPr/>
          <p:nvPr/>
        </p:nvSpPr>
        <p:spPr>
          <a:xfrm>
            <a:off x="695160" y="4241880"/>
            <a:ext cx="6110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4931"/>
          <p:cNvSpPr/>
          <p:nvPr/>
        </p:nvSpPr>
        <p:spPr>
          <a:xfrm>
            <a:off x="695160" y="4788000"/>
            <a:ext cx="7317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图片 123905" descr=""/>
          <p:cNvPicPr/>
          <p:nvPr/>
        </p:nvPicPr>
        <p:blipFill>
          <a:blip r:embed="rId1"/>
          <a:stretch/>
        </p:blipFill>
        <p:spPr>
          <a:xfrm>
            <a:off x="701640" y="773280"/>
            <a:ext cx="7486560" cy="6048360"/>
          </a:xfrm>
          <a:prstGeom prst="rect">
            <a:avLst/>
          </a:prstGeom>
          <a:ln w="0">
            <a:noFill/>
          </a:ln>
        </p:spPr>
      </p:pic>
      <p:sp>
        <p:nvSpPr>
          <p:cNvPr id="1402" name="矩形 123906"/>
          <p:cNvSpPr/>
          <p:nvPr/>
        </p:nvSpPr>
        <p:spPr>
          <a:xfrm>
            <a:off x="822240" y="774720"/>
            <a:ext cx="706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3907"/>
          <p:cNvSpPr/>
          <p:nvPr/>
        </p:nvSpPr>
        <p:spPr>
          <a:xfrm>
            <a:off x="822240" y="1346040"/>
            <a:ext cx="706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3908"/>
          <p:cNvSpPr/>
          <p:nvPr/>
        </p:nvSpPr>
        <p:spPr>
          <a:xfrm>
            <a:off x="835200" y="1930320"/>
            <a:ext cx="7405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3909"/>
          <p:cNvSpPr/>
          <p:nvPr/>
        </p:nvSpPr>
        <p:spPr>
          <a:xfrm>
            <a:off x="809640" y="2476440"/>
            <a:ext cx="7405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3910"/>
          <p:cNvSpPr/>
          <p:nvPr/>
        </p:nvSpPr>
        <p:spPr>
          <a:xfrm>
            <a:off x="809640" y="3060720"/>
            <a:ext cx="7405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3911"/>
          <p:cNvSpPr/>
          <p:nvPr/>
        </p:nvSpPr>
        <p:spPr>
          <a:xfrm>
            <a:off x="847800" y="3683160"/>
            <a:ext cx="731664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23912"/>
          <p:cNvSpPr/>
          <p:nvPr/>
        </p:nvSpPr>
        <p:spPr>
          <a:xfrm>
            <a:off x="784080" y="4648320"/>
            <a:ext cx="74059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3913"/>
          <p:cNvSpPr/>
          <p:nvPr/>
        </p:nvSpPr>
        <p:spPr>
          <a:xfrm>
            <a:off x="797040" y="5232240"/>
            <a:ext cx="7405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123914"/>
          <p:cNvSpPr/>
          <p:nvPr/>
        </p:nvSpPr>
        <p:spPr>
          <a:xfrm>
            <a:off x="847800" y="5829480"/>
            <a:ext cx="7405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123915"/>
          <p:cNvSpPr/>
          <p:nvPr/>
        </p:nvSpPr>
        <p:spPr>
          <a:xfrm>
            <a:off x="835200" y="6413400"/>
            <a:ext cx="7405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3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40289" descr=""/>
          <p:cNvPicPr/>
          <p:nvPr/>
        </p:nvPicPr>
        <p:blipFill>
          <a:blip r:embed="rId1"/>
          <a:stretch/>
        </p:blipFill>
        <p:spPr>
          <a:xfrm>
            <a:off x="272880" y="903240"/>
            <a:ext cx="8191800" cy="5076720"/>
          </a:xfrm>
          <a:prstGeom prst="rect">
            <a:avLst/>
          </a:prstGeom>
          <a:ln w="0">
            <a:noFill/>
          </a:ln>
        </p:spPr>
      </p:pic>
      <p:sp>
        <p:nvSpPr>
          <p:cNvPr id="1335" name="矩形 140290"/>
          <p:cNvSpPr/>
          <p:nvPr/>
        </p:nvSpPr>
        <p:spPr>
          <a:xfrm>
            <a:off x="7655040" y="153684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40291"/>
          <p:cNvSpPr/>
          <p:nvPr/>
        </p:nvSpPr>
        <p:spPr>
          <a:xfrm>
            <a:off x="7629480" y="328932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39265" descr=""/>
          <p:cNvPicPr/>
          <p:nvPr/>
        </p:nvPicPr>
        <p:blipFill>
          <a:blip r:embed="rId1"/>
          <a:stretch/>
        </p:blipFill>
        <p:spPr>
          <a:xfrm>
            <a:off x="378000" y="1095480"/>
            <a:ext cx="8210520" cy="459108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39266"/>
          <p:cNvSpPr/>
          <p:nvPr/>
        </p:nvSpPr>
        <p:spPr>
          <a:xfrm>
            <a:off x="7743960" y="4699080"/>
            <a:ext cx="43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图片 138241" descr=""/>
          <p:cNvPicPr/>
          <p:nvPr/>
        </p:nvPicPr>
        <p:blipFill>
          <a:blip r:embed="rId1"/>
          <a:stretch/>
        </p:blipFill>
        <p:spPr>
          <a:xfrm>
            <a:off x="307800" y="1017720"/>
            <a:ext cx="8096400" cy="1952640"/>
          </a:xfrm>
          <a:prstGeom prst="rect">
            <a:avLst/>
          </a:prstGeom>
          <a:ln w="0">
            <a:noFill/>
          </a:ln>
        </p:spPr>
      </p:pic>
      <p:sp>
        <p:nvSpPr>
          <p:cNvPr id="1340" name="矩形 138242"/>
          <p:cNvSpPr/>
          <p:nvPr/>
        </p:nvSpPr>
        <p:spPr>
          <a:xfrm>
            <a:off x="7566120" y="166356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7217" descr=""/>
          <p:cNvPicPr/>
          <p:nvPr/>
        </p:nvPicPr>
        <p:blipFill>
          <a:blip r:embed="rId1"/>
          <a:stretch/>
        </p:blipFill>
        <p:spPr>
          <a:xfrm>
            <a:off x="404640" y="896760"/>
            <a:ext cx="8106120" cy="503892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7218"/>
          <p:cNvSpPr/>
          <p:nvPr/>
        </p:nvSpPr>
        <p:spPr>
          <a:xfrm>
            <a:off x="7642080" y="210816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3" name="图片 136193" descr=""/>
          <p:cNvPicPr/>
          <p:nvPr/>
        </p:nvPicPr>
        <p:blipFill>
          <a:blip r:embed="rId1"/>
          <a:stretch/>
        </p:blipFill>
        <p:spPr>
          <a:xfrm>
            <a:off x="306360" y="960480"/>
            <a:ext cx="8124840" cy="542880"/>
          </a:xfrm>
          <a:prstGeom prst="rect">
            <a:avLst/>
          </a:prstGeom>
          <a:ln w="0">
            <a:noFill/>
          </a:ln>
        </p:spPr>
      </p:pic>
      <p:pic>
        <p:nvPicPr>
          <p:cNvPr id="1344" name="图片 136194" descr=""/>
          <p:cNvPicPr/>
          <p:nvPr/>
        </p:nvPicPr>
        <p:blipFill>
          <a:blip r:embed="rId2"/>
          <a:stretch/>
        </p:blipFill>
        <p:spPr>
          <a:xfrm>
            <a:off x="771480" y="1617840"/>
            <a:ext cx="7677360" cy="159048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136195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8258040" cy="2914560"/>
          </a:xfrm>
          <a:prstGeom prst="rect">
            <a:avLst/>
          </a:prstGeom>
          <a:ln w="0">
            <a:noFill/>
          </a:ln>
        </p:spPr>
      </p:pic>
      <p:sp>
        <p:nvSpPr>
          <p:cNvPr id="1346" name="矩形 136196"/>
          <p:cNvSpPr/>
          <p:nvPr/>
        </p:nvSpPr>
        <p:spPr>
          <a:xfrm>
            <a:off x="7718400" y="165096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36197"/>
          <p:cNvSpPr/>
          <p:nvPr/>
        </p:nvSpPr>
        <p:spPr>
          <a:xfrm>
            <a:off x="7756560" y="40006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图片 135169" descr=""/>
          <p:cNvPicPr/>
          <p:nvPr/>
        </p:nvPicPr>
        <p:blipFill>
          <a:blip r:embed="rId1"/>
          <a:stretch/>
        </p:blipFill>
        <p:spPr>
          <a:xfrm>
            <a:off x="446040" y="930240"/>
            <a:ext cx="8124840" cy="5734080"/>
          </a:xfrm>
          <a:prstGeom prst="rect">
            <a:avLst/>
          </a:prstGeom>
          <a:ln w="0">
            <a:noFill/>
          </a:ln>
        </p:spPr>
      </p:pic>
      <p:sp>
        <p:nvSpPr>
          <p:cNvPr id="1349" name="矩形 135170"/>
          <p:cNvSpPr/>
          <p:nvPr/>
        </p:nvSpPr>
        <p:spPr>
          <a:xfrm>
            <a:off x="2575080" y="2095560"/>
            <a:ext cx="1106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5171"/>
          <p:cNvSpPr/>
          <p:nvPr/>
        </p:nvSpPr>
        <p:spPr>
          <a:xfrm>
            <a:off x="1292400" y="2705040"/>
            <a:ext cx="1106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5172"/>
          <p:cNvSpPr/>
          <p:nvPr/>
        </p:nvSpPr>
        <p:spPr>
          <a:xfrm>
            <a:off x="4073400" y="2692440"/>
            <a:ext cx="110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5173"/>
          <p:cNvSpPr/>
          <p:nvPr/>
        </p:nvSpPr>
        <p:spPr>
          <a:xfrm>
            <a:off x="2155680" y="3301920"/>
            <a:ext cx="110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5174"/>
          <p:cNvSpPr/>
          <p:nvPr/>
        </p:nvSpPr>
        <p:spPr>
          <a:xfrm>
            <a:off x="3019320" y="3873600"/>
            <a:ext cx="1106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5175"/>
          <p:cNvSpPr/>
          <p:nvPr/>
        </p:nvSpPr>
        <p:spPr>
          <a:xfrm>
            <a:off x="6296040" y="3873600"/>
            <a:ext cx="58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5176"/>
          <p:cNvSpPr/>
          <p:nvPr/>
        </p:nvSpPr>
        <p:spPr>
          <a:xfrm>
            <a:off x="7591320" y="3886200"/>
            <a:ext cx="58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5177"/>
          <p:cNvSpPr/>
          <p:nvPr/>
        </p:nvSpPr>
        <p:spPr>
          <a:xfrm>
            <a:off x="1380960" y="4444920"/>
            <a:ext cx="586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5178"/>
          <p:cNvSpPr/>
          <p:nvPr/>
        </p:nvSpPr>
        <p:spPr>
          <a:xfrm>
            <a:off x="2448000" y="5587920"/>
            <a:ext cx="58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5179"/>
          <p:cNvSpPr/>
          <p:nvPr/>
        </p:nvSpPr>
        <p:spPr>
          <a:xfrm>
            <a:off x="7045200" y="6210360"/>
            <a:ext cx="586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图片 134146" descr=""/>
          <p:cNvPicPr/>
          <p:nvPr/>
        </p:nvPicPr>
        <p:blipFill>
          <a:blip r:embed="rId1"/>
          <a:stretch/>
        </p:blipFill>
        <p:spPr>
          <a:xfrm>
            <a:off x="365040" y="965160"/>
            <a:ext cx="8058240" cy="4038480"/>
          </a:xfrm>
          <a:prstGeom prst="rect">
            <a:avLst/>
          </a:prstGeom>
          <a:ln w="0">
            <a:noFill/>
          </a:ln>
        </p:spPr>
      </p:pic>
      <p:sp>
        <p:nvSpPr>
          <p:cNvPr id="1360" name="矩形 134147"/>
          <p:cNvSpPr/>
          <p:nvPr/>
        </p:nvSpPr>
        <p:spPr>
          <a:xfrm>
            <a:off x="6804000" y="455940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3121" descr=""/>
          <p:cNvPicPr/>
          <p:nvPr/>
        </p:nvPicPr>
        <p:blipFill>
          <a:blip r:embed="rId1"/>
          <a:stretch/>
        </p:blipFill>
        <p:spPr>
          <a:xfrm>
            <a:off x="246240" y="909720"/>
            <a:ext cx="8067600" cy="4657680"/>
          </a:xfrm>
          <a:prstGeom prst="rect">
            <a:avLst/>
          </a:prstGeom>
          <a:ln w="0">
            <a:noFill/>
          </a:ln>
        </p:spPr>
      </p:pic>
      <p:sp>
        <p:nvSpPr>
          <p:cNvPr id="1362" name="矩形 133122"/>
          <p:cNvSpPr/>
          <p:nvPr/>
        </p:nvSpPr>
        <p:spPr>
          <a:xfrm>
            <a:off x="1190520" y="2755800"/>
            <a:ext cx="738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3123"/>
          <p:cNvSpPr/>
          <p:nvPr/>
        </p:nvSpPr>
        <p:spPr>
          <a:xfrm>
            <a:off x="1380960" y="5207040"/>
            <a:ext cx="34308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1:19:25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